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044440"/>
            <a:ext cx="10464840" cy="285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95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092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25000"/>
          </a:bodyPr>
          <a:p>
            <a:pPr marL="85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marL="85680" indent="-8568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marL="85680" indent="-85680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marL="85680" indent="-8568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marL="85680" indent="-8568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marL="85680" indent="-8568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marL="85680" indent="-8568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50418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91476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24380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57284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90152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0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1236600" indent="-5252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681200" indent="-5256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2125800" indent="-5256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2570040" indent="-5252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2570040" indent="-5252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2570040" indent="-5252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9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50418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91476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24380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57284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90152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00280" y="7797960"/>
            <a:ext cx="634968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59440" y="7797960"/>
            <a:ext cx="504180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 marL="243360" indent="-2433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 marL="243360" indent="-243360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 marL="243360" indent="-2433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 marL="243360" indent="-243360">
              <a:buClr>
                <a:srgbClr val="4d4d4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 marL="243360" indent="-2433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 marL="243360" indent="-2433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201080" y="698040"/>
            <a:ext cx="5689440" cy="1638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a1a1a"/>
                </a:solidFill>
                <a:latin typeface="Copperplate"/>
              </a:rPr>
              <a:t>Click to edit the title text format</a:t>
            </a:r>
            <a:endParaRPr b="0" lang="en-US" sz="3800" spc="-1" strike="noStrike">
              <a:solidFill>
                <a:srgbClr val="1a1a1a"/>
              </a:solidFill>
              <a:latin typeface="Copperplat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201080" y="7467120"/>
            <a:ext cx="56894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72000"/>
          </a:bodyPr>
          <a:p>
            <a:pPr marL="2469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 marL="246960" indent="-2469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 marL="246960" indent="-246960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 marL="246960" indent="-2469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 marL="246960" indent="-246960">
              <a:buClr>
                <a:srgbClr val="4d4d4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 marL="246960" indent="-2469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 marL="246960" indent="-2469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0280" y="7797960"/>
            <a:ext cx="634968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759440" y="7797960"/>
            <a:ext cx="504180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 marL="243360" indent="-2433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 marL="243360" indent="-243360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 marL="243360" indent="-2433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 marL="243360" indent="-243360">
              <a:buClr>
                <a:srgbClr val="4d4d4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 marL="243360" indent="-2433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 marL="243360" indent="-2433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772040" y="2615760"/>
            <a:ext cx="396252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14800" indent="-34128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803520" indent="-34128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092600" indent="-3416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381680" indent="-3416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670400" indent="-34128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670400" indent="-34128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670400" indent="-34128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3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8268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727280" indent="-5716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3" marL="2171880" indent="-5716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4" marL="261612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5" marL="2616120" indent="-571320">
              <a:spcBef>
                <a:spcPts val="1800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6" marL="2616120" indent="-571320">
              <a:spcBef>
                <a:spcPts val="1800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786960"/>
            <a:ext cx="10464840" cy="817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29440" indent="-56556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69720" indent="-56556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710000" indent="-56592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3" marL="2149920" indent="-56592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4" marL="2589840" indent="-56556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5" marL="2589840" indent="-565560">
              <a:spcBef>
                <a:spcPts val="47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6" marL="2589840" indent="-565560">
              <a:spcBef>
                <a:spcPts val="47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5000"/>
          </a:bodyPr>
          <a:p>
            <a:pPr marL="257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marL="257040" indent="-257040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5000"/>
          </a:bodyPr>
          <a:p>
            <a:pPr marL="257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marL="257040" indent="-257040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6629040"/>
            <a:ext cx="10464840" cy="2120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8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742840"/>
            <a:ext cx="10464840" cy="426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8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65" name="Line 2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"/>
          <p:cNvSpPr/>
          <p:nvPr/>
        </p:nvSpPr>
        <p:spPr>
          <a:xfrm>
            <a:off x="155520" y="2705040"/>
            <a:ext cx="12674520" cy="1536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Helvetica Neue Light"/>
                <a:ea typeface="Helvetica Neue Light"/>
              </a:rPr>
              <a:t>Teach a Book: Classroom Management for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Helvetica Neue Light"/>
                <a:ea typeface="Helvetica Neue Light"/>
              </a:rPr>
              <a:t>Middle and High School Teachers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4113000" y="5560920"/>
            <a:ext cx="4770720" cy="1219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Helvetica Neue Light"/>
                <a:ea typeface="Helvetica Neue Light"/>
              </a:rPr>
              <a:t>Edmund T. Emmer</a:t>
            </a: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Helvetica Neue Light"/>
                <a:ea typeface="Helvetica Neue Light"/>
              </a:rPr>
              <a:t>Carolyn M. Evertson</a:t>
            </a: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3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Student Work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4120" y="1904760"/>
            <a:ext cx="12674520" cy="774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ommunicating assignments and work requirement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nstructions for assignm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Oral explanation of requirements/rubric as well as visual aid on board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outine of copying down assignmen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andards for form, neatness, and due dat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ocedures for absent stud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ost weekly assignments or keep absentee folder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Length for make-up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lace for late work turn in and graded pick up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issed group work - assist groups in inclusion of absent member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4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Getting Off to a Good Start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1160" y="1968480"/>
            <a:ext cx="1278900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erspectives on the beginning of the year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53160" indent="-5367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esolve student uncertainties: expectations, procedures, and rules - opportunity for students to learn appropriate behavior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53160" indent="-5367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lan uncomplicated lessons to ensure student succes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53160" indent="-5367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Keep whole-class focus (group work should maintain this); prepare extra credit or enrichment assignments; later introduce complex activiti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53160" indent="-5367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e available, visible, and in charge: work the room; praise, prompt, leave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53160" indent="-5367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eacher authority: rights to set standards for behavior and performance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71120" indent="-537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raditional, bureaucratic, expert/professional, charismatic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71120" indent="-537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ost teachers derive authority from several source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71120" indent="-537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uthoritarian (control through threats and punishment) vs authoritative (provide basis for actions/discipline, give students independence for maturity, and administer consequences fairly and proportionately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4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Getting Off to a Good Start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1160" y="1815840"/>
            <a:ext cx="1278900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lanning for a good beginning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hecking books out to students (wait until lockers have been assigned): record book numbers, name stamp, cover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aperwork (hall pass, emergency forms, etc): all forms on hand and separated in folder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osters organized by period, noting accommodations for seating/medication, 3x5: name, book #, attendance, grades until class stabilized - useful for calling on stud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eating assignments: learn names/attendance faster, class managemen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First-week bell schedule, tardiness leniency for first few days, administrative tasks, rul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ourse requirements: tests, quizzes, hw contributions - parents sign?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eginning routine and alternative activities (wkst, puzzles, logic problems)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4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Getting Off to a Good Start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1160" y="1879200"/>
            <a:ext cx="12789000" cy="786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first day of clas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and near door (sign w/name outside), make eye contact and smile, correct any students that enter with unacceptable behavior, and make sure students are in the correct room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dministrative tasks (forms on hand), check attendance by raised hands (not call-outs), teacher/student/course introduct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iscussion of class rules and rationale/penalties, emphasizing benefits to all, and presentation of course requirem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nteresting initial content activity: should require little or no assistance, which allows time for teaching procedur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xplain what students are expected to do, list steps on board if complex, demonstrate when possible, give corrective feedback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void pre-tests, small groups, projects, and individualized instruction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stablish end-of-period routine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253800" y="2120760"/>
            <a:ext cx="124333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second day of class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706760" indent="-548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f 1</a:t>
            </a:r>
            <a:r>
              <a:rPr b="0" lang="en-US" sz="2800" spc="-1" strike="noStrike" baseline="32000">
                <a:solidFill>
                  <a:srgbClr val="000000"/>
                </a:solidFill>
                <a:latin typeface="Helvetica Neue Light"/>
                <a:ea typeface="ＭＳ Ｐゴシック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 day was short, review class procedures and follow 1</a:t>
            </a:r>
            <a:r>
              <a:rPr b="0" lang="en-US" sz="2800" spc="-1" strike="noStrike" baseline="32000">
                <a:solidFill>
                  <a:srgbClr val="000000"/>
                </a:solidFill>
                <a:latin typeface="Helvetica Neue Light"/>
                <a:ea typeface="ＭＳ Ｐゴシック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ay plan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06760" indent="-548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dentify new students and get them seated, re-state beginning-of-class routine, review major rules and procedur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06760" indent="-548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esent content activity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06760" indent="-548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lose period with procedure introduced on day 1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marL="8532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fter the second day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ontinue using procedures, adding new ones as needed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onitor student behavior and give students feedback when their behavior does not meet expectat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hould start giving regular assignments for in-class and at home and check work promptly using grading procedur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127008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4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Getting Off to a Good Start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5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lanning and Conducting Instruction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1520" y="1752120"/>
            <a:ext cx="1273824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lanning classroom activities: typ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Openers to transition into the classroom (Do Now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) and Closer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ecking work: must teach appropriate procedures (different ink color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citation: oral check of student understanding, distribute questions to all members of class, watch for too slow or too rapid pacing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ontent development: intro/extension of material, concepts, or skills; teacher questions/collect work for understanding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iscussion: encourage evaluation, awareness of other points of view, sharing of opinions; requires planning prompting questions and management of activity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eatwork on previously presented material, start as class then independent work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est administration (plan work for early finishers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udent presentations and demos - give guidelines in advance, audience behavior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mall-group work: lab work, promote greater comprehension, cooperative learning, reciprocal teaching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ests and presentations/demonstration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114480" y="2044800"/>
            <a:ext cx="1261080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rganizing activities - depends on number of different topics covered in class; focus on see-say-do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1756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Kounin: managing group instruction - activity flow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eventing misbehavior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withitness and overlapping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anaging lesson movemen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omentum (pacing) and smoothness (continuity; ex. dangle, thrust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aintaining group focu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group alerting (tell students they might be called on next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ncouraging accountability (performance observed and evaluated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higher participation formats: write answers, read along during instruction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127008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5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lanning and Conducting Instruction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164880" y="2057040"/>
            <a:ext cx="12636360" cy="768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ransition management (see problems/solutions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4420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nstructional managemen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lanning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nticipate problems (new terms and examples, demos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o homework to find difficulties - build hints in lesson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nfuse enthusiasm into lesson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esenting new content clearly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Learning objectives at beginning and provide an outline for a complex lesson or video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hecking for understanding: formative and summative assessm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sk review question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iscuss and solve problems as a group; recitation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ndicators (multiple choice question, 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hands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to indicate response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127008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5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lanning and Conducting Instruction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9800" y="76320"/>
            <a:ext cx="120016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6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Cooperative Learning Group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8560" y="1904760"/>
            <a:ext cx="1275084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search on cooperative learning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qual or greater learning than individualistic or competitive teaching method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 Neue Light"/>
                <a:ea typeface="ＭＳ Ｐゴシック"/>
              </a:rPr>
              <a:t>effective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 cooperative groups due to increased engagement with content; NEED feedback/instruction on how to collaborate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marL="826560" indent="-53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rategies and routines that support cooperative learning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oom arrangement - line up desks to marks on floor for quick transit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alk and movement procedures: 6-inch voices, materials manager, state timed movement expectation w/verbal reminder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Group attention signals: MS raised hands, HS turn on projector and ask for eyes at the front; avoid interruptions/present info ahead of time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omoting interdependence within groups: individual tasks (vary skills, research different topic for report), group grad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ndividual accountability - id contributions, peer evaluation, individual notebooks graded at various times, individual responsibility to explain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101160" y="1815840"/>
            <a:ext cx="127508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onitoring student work and behavior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Work the room w/clipboard to write notes about all students about satisfactory group functioning - note degree of explanation/demonstration and use for feedback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group and individual performance -self-monitor to identify difficulties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ntervention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n/verbal redirect, time out/work alone, conference w/individual students, conference w/entire group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ffective group work skills: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ocial skills: teach active listening/sharing/support before group work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xplaining skills: Rotate summarizer role, explain something to partner and explain back, work as group to answer a question and present to class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Leadership skills: assign presenter/discussion leader roles to build skills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469800" y="254160"/>
            <a:ext cx="12001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6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Cooperative Learning Groups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16000" y="254160"/>
            <a:ext cx="1240776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1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rganizing Your Classroom and Material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oom arrangement: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onsistent with instructional goals and activiti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eacher-led vs small group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ix of both?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High-traffic areas free of congestion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udents easily seen by teacher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Frequently used materials/supplies easily accessible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udents easily see board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1"/>
          <p:cNvSpPr/>
          <p:nvPr/>
        </p:nvSpPr>
        <p:spPr>
          <a:xfrm>
            <a:off x="355680" y="1994040"/>
            <a:ext cx="12471480" cy="75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Beginning the use of cooperative learning groups</a:t>
            </a:r>
            <a:endParaRPr b="0" lang="en-US" sz="36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oom arrangement, procedures, and routines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Forming groups: star with pairs, working up to larger groups that have a range of achievement levels, match extremes w/middle to motivate lower achiever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nitial group tasks to build skills: turn to your partner and explain/compare answers, drill partner, reading buddy, checking, reviewers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eaching group skills: listening, explaining, asking for help, encouraging, and sharing - introduce one/week and give feedback; assign and rotate roles (keep on index cards w/behaviors) so everyone gains experience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Using group and individual rewards to practice/improve skills - tickets for good behavior for toy raffle/points for fun activities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469800" y="254160"/>
            <a:ext cx="12001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6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Cooperative Learning Groups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55320" y="254160"/>
            <a:ext cx="122806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7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intaining Appropriate Student Behavior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53800" y="1980720"/>
            <a:ext cx="12496680" cy="755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onitoring student behavior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udent involvement in learning activities: </a:t>
            </a:r>
            <a:r>
              <a:rPr b="0" lang="ja-JP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ctive eyes,</a:t>
            </a:r>
            <a:r>
              <a:rPr b="0" lang="ja-JP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work the room and don</a:t>
            </a:r>
            <a:r>
              <a:rPr b="0" lang="ja-JP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 spend more than 1-2 min/student, start whole-group activity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udent compliance with classroom rules and procedures: clear expectations that have been communicated to the clas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marL="84420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onsistency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nconsistency from unreasonable/inappropriate rules, no detection of inappropriate behavior, not willing to enforce every time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at to do if you are inconsisten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3" marL="211140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-teach procedure (discuss problem) and enforce i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3" marL="211140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odify and reintroduce i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3" marL="2111400" indent="-542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r, abandon it and substitute another in its place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304920" y="2107800"/>
            <a:ext cx="12306240" cy="740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ompt management of inappropriate behavior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ye contact/move closer and prompt appropriate behavior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eminder of procedure by stating correct one or note students who are doing what is expected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edirect attention to task and monitor shortly thereafter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sk/tell student to stop inappropriate behavior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ake it private: call to desk, whisper, nonverbal cu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riefly talk to student/assess penalti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ime out at desk or another room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355680" y="254160"/>
            <a:ext cx="12280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7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intaining Appropriate Student Behavior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304920" y="2107800"/>
            <a:ext cx="12306240" cy="740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Building a positive climate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ommunicate positive expectations to students: convey confidence in students</a:t>
            </a:r>
            <a:r>
              <a:rPr b="0" lang="ja-JP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ability to do well, can do attitude, maintain high expectat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ppropriate teacher praise (public vs private): both informative feedback and genuine teacher approval that focuses on accomplishment, not effor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marL="826560" indent="-531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mproving class climate through incentives or reward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Grades (tie as many facets of work as possible) and recognition (display work, certificate, verbal, stickers, improvement/conduct)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ctivities (PAT) and material incentives (food, games, books): relate to behaviors most important to you (attendance, hw), everyone can achieve i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39840" indent="-531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ution of effect of rewards: enhance or hurt? - imperfect condit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25" name="Rectangle 2"/>
          <p:cNvSpPr/>
          <p:nvPr/>
        </p:nvSpPr>
        <p:spPr>
          <a:xfrm>
            <a:off x="355680" y="254160"/>
            <a:ext cx="12280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7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intaining Appropriate Student Behavior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8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ommunication Skills for Teaching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1520" y="1943280"/>
            <a:ext cx="12738240" cy="779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onstructive assertivenes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lear statement of problem or concern and describing effects - reduces student defensiveness, avoids labeling students/behavior, use statem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Unambiguous body language: eye contact, posture, facial expression matches tone of statem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Obtaining appropriate behavior and resolving the problem: student needs to accept responsibility for behavior, dramatic emphasis for evasive stud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mpathic responding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Keeps lines of communication open between you and the student and aids problem solving proces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wo components: listening skills and processing skill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63360" y="1942920"/>
            <a:ext cx="12776400" cy="778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oblem solving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dentify the problem: state purpose of meeting, get students point of view/describe problem, ask students reaction; evaluate: help/hurt?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dentify and select the solution: student suggestion, multiple teacher alternatives; positive focus with plan for improvemen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Obtain a commitment: student acceptance for period of time followed by evaluation (sometimes in a contract) with consequences if not followed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marL="81756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alking with parent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onstructive assertiveness, empathetic responding, problem solving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xpress appreciation for parents</a:t>
            </a:r>
            <a:r>
              <a:rPr b="0" lang="ja-JP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efforts to meet,work w/them as a team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Focus on choices student is making and how to encourage better decis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ocument concerns: student work and notes of behavior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127008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8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ommunication Skills for Teaching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9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Problem Behavior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4480" y="1943280"/>
            <a:ext cx="12725280" cy="775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at is problem behavior?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nproblem: brief inattention, transition talk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inor problem: students calling out, leaving seats, talk during group work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ajor problem, but limited in scope/effects: chronically off-task, failure to pass in hw assignments, vandalism, cheating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scalating or spreading problem: unabated social talking, back talk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Goals for managing problem behavior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Judge short-term (bad behaviors cease) and long-term effects (prevention) of any management strategy chosen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Optimal: Maintain/restore order w/out adversely affecting learning environment; should prevent repetition of problem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9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Problem Behavior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52280" y="1841400"/>
            <a:ext cx="12674880" cy="784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ement strateg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inor intervent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nverbal cues: finger to lips, head shake, hand signal, light touch to arm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Get activity moving: quick transitions, all materials ready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oximity: zones of proximity, combine w/nonverbal cue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Group focus: group alerting, accountability, higher participation forma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edirect behavior: state what should be done, 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verybody should be writing answers to the practice problems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ovide needed instruction: check student work, whole-class instruction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rief desist: direct eye contact and assertiveness, combine w/redirection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Give student a choice: behave appropriately or continue behavior w/consequence, 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oose to clean up now or say after class until area is clean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-message: 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t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 distracting to me and the class when you get out of your seat,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learn awareness of effects of behavior on other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9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Problem Behavior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2280" y="2018880"/>
            <a:ext cx="12535200" cy="769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ement strateg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oderate intervent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Withhold privilege and earn back w/appropriate behavior (sit near friends, work together on project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solate/remove problem students: desk at back of room, time out, switch if rewarding to student, time out or walk to principal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 office, labels student as excludable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Fine or penalty: extra work, but defined as punishment - quick to administer, but content negatively affected, non-content (look up and copy 10 definitions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etention best for behaviors that involve time (tardiness, time-wasting behavior) or repeated rule violations; adv: disliked, administered away from classroom; disadv: takes teacher time, student skipping, additional record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ferral to office for fighting, vandalism, rudeness and disrespect; adv: effective limit, short-circuit escalating situation; disadv: depends on others for effectiveness, potential for discrimination; use sparingly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9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Problem Behavior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4160" y="1955520"/>
            <a:ext cx="12484080" cy="774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ement strateg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13200" indent="-519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ore extensive intervent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13200" indent="-519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esign individual contract with student - problem solving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13200" indent="-519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onference w/parent: describe situation and appreciate support that parent gives to help understand and resolve problem, have grade book handy - require time and energy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13200" indent="-519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heck (name on board)/demerit (record that student signs to accept responsibility) system; adv: set/maintain limits, consequences are clear; disadv: catch bad behaviors, hard to detect behavior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13200" indent="-519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oblem solving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13200" indent="-519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ink time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strategy - remove student to another teacher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 classroom, debriefing form: what was behavior? what behavior do you need to display upon return?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13200" indent="-519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ality therapy: establish caring relationship, focus on behavior, accept responsibility, evaluate behavior, make plan, commitment to follow plan, following up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13200" indent="-519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eer mediation: students trained to listen/clarify issues, help negotiate, write solution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16000" y="254160"/>
            <a:ext cx="1240776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1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rganizing Your Classroom and Material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1120" y="2590560"/>
            <a:ext cx="10909080" cy="633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99920" indent="-514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uggestions for arranging your classroom: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99880" indent="-514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ulletin boards/wall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00200" indent="-5144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aily assignments on decorative display (colored paper or borders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00200" indent="-5144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9th grade and below post rules of classroom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00200" indent="-5144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eward 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lass of the month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199880" indent="-514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Floor space - starting point: where is whole-class instruction?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199880" indent="-514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udent desks - avoid students w/backs to instructional area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199880" indent="-514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eacher</a:t>
            </a:r>
            <a:r>
              <a:rPr b="0" lang="ja-JP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 desk and other equipmen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199880" indent="-514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orage space and suppli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152280" y="2044800"/>
            <a:ext cx="126367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pecial problem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hronic avoidance of work: good records a mus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bility: break assignment into parts/modify assignmen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arent phone call, reach out to coaches, no grade leniency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Fighting: injury if intervene? disperse crowd, get help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Other aggressive behavior: all behavior, even if playful, is unacceptable; respect others; one warning; separate students; conference w/studen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ullying: bullying prevention programs, monitor student behavior, talk with class about behavior and effects, bully and victim problem solving, involve school counselor, incorporate social skills training in clas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66480" indent="-54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isrespect/hostility towards teacher: don</a:t>
            </a:r>
            <a:r>
              <a:rPr b="0" lang="ja-JP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 go brainstem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Best to defuse: keep it private and individual conference with studen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89120" indent="-542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epersonalize: 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is is taking time away from class. I will discuss it with you in a few minutes when I have time.</a:t>
            </a:r>
            <a:r>
              <a:rPr b="0" lang="ja-JP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39" name="Rectangle 2"/>
          <p:cNvSpPr/>
          <p:nvPr/>
        </p:nvSpPr>
        <p:spPr>
          <a:xfrm>
            <a:off x="127008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9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Problem Behaviors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10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Special Group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64880" y="2374920"/>
            <a:ext cx="12737880" cy="745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79840" indent="-56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eaching heterogeneous class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19760" indent="-56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ssessing entering achievement: previous tests, pre-tests, monitor initial classwork (class notes, summary from book)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19760" indent="-56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odifying whole group instruction: participation (pacing), procedures for managing student work, thoughtful seating arrangement, assignments: EC and enrichment, peer tutoring (expectations and management skills)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19760" indent="-56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ooperative work group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19760" indent="-56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mall (homogeneous) group instruction: location of group/seating, materials/storage/accessibility, student movement/transitions, out-of-group procedures and expectation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19760" indent="-56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astery learning: re-take tests until proficient by providing increased feedback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60040" indent="-565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Labor intensive: managerial skills, alt. forms of tests, extra grading, scheduling, enrichment activities, recordkeeping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60040" indent="-565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evelop/introduce incrementally, due dates, specified days for test re-take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6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6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10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Special Group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1520" y="2070000"/>
            <a:ext cx="12738240" cy="764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eaching remedial class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Learner characteristics: high absence/tardies, arbitrary grades, frequent failure, poor study skills, low attention span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stablishing your management system: continually reinforce procedures and routines, question class, practice, feedback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onitoring behavior and prompt respons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Managing student work of daily/weekly grades for frequent feedback, grade for effort/performance, incorporate participation (involvement, learning, attendance)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lanning and presenting instruction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hort activity segments w/frequent assessment of understanding (see, say, do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xtra attention to presenting directions and instruction clearly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24400" indent="-55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uild teaching of study skills in lesson (note taking, identifying main ideas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10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Special Group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39680" y="2196720"/>
            <a:ext cx="12738240" cy="734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udents with special need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ontent mastery classroom: provide extra help, extra time for tests, staffed w/special education teachers who can provide suggestions for adapting teaching/managemen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nclusion - special education students in general education classrooms: IEPs, regular planned meetings for progress and support, assignment modification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motional/behavioral problem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communication with all, overlook minor inappropriate behavior, reinforce acceptable behavior, identify/reduce/prevent stressors, temporary lowered expectation on bad days, offer structured choices, allow leaving classroom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emember you are convenient target, but not cause of anger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erious social deficits (ASD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odd social skills with poor communication skills, extreme anxiety to change/unmet expectations, acute sensitivity to sounds, poor motor skills, stereotyped movemen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use visual prompts, brief instructions (write down), social stories, strengths and interests in teaching to provide ways to develop talents, social feedback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10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Special Group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9680" y="1891800"/>
            <a:ext cx="12738240" cy="779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udents with special need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DHD: 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istractible, impulsive, disorganized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63548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edictability and structure, ask others what works best for them, make sure you have their attention when giving clear/brief instructions, observe as they work, remind/reinforce effort and accuracy over speed, finger card/marker for reading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Deaf/hard-of-hearing: auditory devices, center of room seat, projector not chalkboard, repeat/rephrase info, restate responses, close monitoring, note taker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ind/visually-impaired: board work - read aloud, tape recorders, hands-on work, change in activity to prevent tiring, seat w/back to window, move as needed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xtreme poverty: increased communication and relationship building, presentation of non-weak image/insolence, extra materials/supplies, bracket anxieties, peer buddy, provide underlying assumptions for behavior, + self-talk, help another studen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Limited English proficiency: understanding of English, learn key words in native lanuage, body language/gestures, visual aids, long receptive period before confident in classroom, consult counselor if language barrier prevents benefit from instruction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16000" y="254160"/>
            <a:ext cx="1240776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1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rganizing Your Classroom and Material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76240" y="2615760"/>
            <a:ext cx="1125216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f you have to float: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Familiarize yourself with the room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ry to arrange a projector for daily use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06760" indent="-548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epare transparencies for lessons/hw assignments, and notice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 regular space on the board for assignm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orage space for materials that cannot be carried with you everyday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ry to get a cart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79800" indent="-5482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ssign early arriving students the task of preparing the room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06760" indent="-548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rase boards, set up projector, arrange chair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38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2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oosing Rules and Procedures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26720" y="1790640"/>
            <a:ext cx="1275084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y rules and procedures are needed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ules identify general expectations or standards - best when positively stated (You may talk when given permission)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rocedures communicate expectations for behavior - apply to a specific activity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lanning classroom rules and procedures (consequences?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Identify school rules and procedures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round 5 sufficient to cover most behavior (student participation?)</a:t>
            </a:r>
            <a:endParaRPr b="0" lang="en-US" sz="27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ring all needed materials to class</a:t>
            </a:r>
            <a:endParaRPr b="0" lang="en-US" sz="22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e in your seat and ready to work when the bell rings</a:t>
            </a:r>
            <a:endParaRPr b="0" lang="en-US" sz="22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espect and be polite to all people</a:t>
            </a:r>
            <a:endParaRPr b="0" lang="en-US" sz="22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espect other people</a:t>
            </a:r>
            <a:r>
              <a:rPr b="0" lang="ja-JP" sz="22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 property</a:t>
            </a:r>
            <a:endParaRPr b="0" lang="en-US" sz="22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bey all school rules</a:t>
            </a:r>
            <a:endParaRPr b="0" lang="en-US" sz="2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291600" y="1778040"/>
            <a:ext cx="12369960" cy="805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General Procedur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Beginning of period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ttendance: use seating chart, keep track of missing work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bsences: write name and date on handouts and keep in absentee folder; daily assignments on calendar; student volunteers to assist returning student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ardy students: be consistent; sign in sheet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xpected behavior: Warm up questions at beginning of period, copy outline of class activitie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Leaving the room: emergencies only; keeping a record; reduced credit for work not brought to class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Use of materials and equipment: teachers and student material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End of period: clean up of materials and reminders of upcoming work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127008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2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oosing Rules and Procedures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317160" y="2108160"/>
            <a:ext cx="123699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ocedures during seatwork and instructio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udent attention during presentations: respect and note-taking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articipation: raise hands, student call?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eatwork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Talk among students (no student talk vs quiet talk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aised hands for help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Out-of-seat procedures: sharpen pencil, get paper; one-at-a-time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When work is completed (enrichment activities folder, work on hw)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93" name="Rectangle 2"/>
          <p:cNvSpPr/>
          <p:nvPr/>
        </p:nvSpPr>
        <p:spPr>
          <a:xfrm>
            <a:off x="127008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2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oosing Rules and Procedures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"/>
          <p:cNvSpPr/>
          <p:nvPr/>
        </p:nvSpPr>
        <p:spPr>
          <a:xfrm>
            <a:off x="291960" y="2057400"/>
            <a:ext cx="12369960" cy="77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ocedures for group work</a:t>
            </a:r>
            <a:endParaRPr b="0" lang="en-US" sz="36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istribution of material stations/helpers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ssigning students to groups: well-balanced, separate clashing personalities, save time, efficient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utline goals and participation roles (recorder, reader, etc.)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ooperative learning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iscellaneous</a:t>
            </a:r>
            <a:endParaRPr b="0" lang="en-US" sz="36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gnals: obtain student attention, transitions (turn off lights, bell)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nouncements, special equipment, fire drills, and split lunch periods (what to do with work and personal belongings)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127008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2: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oosing Rules and Procedures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hapter 3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Student Work</a:t>
            </a:r>
            <a:endParaRPr b="0" lang="en-US" sz="48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120" y="1904760"/>
            <a:ext cx="12674520" cy="774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Your grading system and record keeping 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chievement, effort, hw, improvement, participation, and percentag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Accurate assessment: frequent evaluation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Record all student info in grade book rather than separate lis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marL="86184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Feedback and monitoring procedur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udents check own work (different ink and model how to check)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tudents keep own record of grad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Long-term/group projects: divide into smaller goals and deadline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Peer review (must teach)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Guided beginning for group seatwork then work the room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  <a:p>
            <a:pPr lvl="1" marL="1293120" indent="-554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Long-range monitoring - keep track of missing assignments</a:t>
            </a:r>
            <a:endParaRPr b="0" lang="en-US" sz="2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mily</dc:creator>
  <dc:description/>
  <cp:keywords/>
  <dc:language>en-US</dc:language>
  <cp:lastModifiedBy>Karen Verkler</cp:lastModifiedBy>
  <dcterms:modified xsi:type="dcterms:W3CDTF">2014-06-16T18:54:42Z</dcterms:modified>
  <cp:revision>1</cp:revision>
  <dc:subject/>
  <dc:title>PowerPoint Presentation</dc:title>
</cp:coreProperties>
</file>